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B55D-1474-4613-8A23-7978A44D6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A99F-74FC-4F0C-95F2-CC5308A0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9A3C-BA81-43CF-8899-41CF1FE93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C2EF-5DBB-47D1-8FE1-1DAB616F3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302F-12A5-4E1A-9FD2-0D0F4FD2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6957-E203-4394-A1F0-797746CA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5842-8ABB-4A4D-8272-012DFF5A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A0D8-950F-40FE-A192-E5C1BCF7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C307-16E8-479F-8237-537BCD67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09BD-EC8A-49A6-81AB-9A6D8C4F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3ACA-11B8-40C1-B856-5467B004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E994-943E-4648-9C28-45513A4E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DE0A-72D2-4E1E-9F71-9F9C4E7C4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1/1a/Penicillin-biosynthesis.pn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dermimages.med.jhmi.edu/images/Stevens_Johnson_syndrome_1_050425.jpg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hyperlink" Target="http://en.wikipedia.org/wiki/Heinrich_Quincke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АЛЕРГИЈА НА ЛЕКОВЕ У ДЕ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ф. др Гордана Кост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АЛЕРГИЈА НА ЛЕКОВЕ У ДЕ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ff"/>
                </a:solidFill>
                <a:latin typeface="Times New Roman"/>
              </a:rPr>
              <a:t>4. тип  -   касна реакција преосетљ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лек + лек специфични Т лимфоци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sr-C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нтактни дерматитис, грозница, молбириформни оси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ђа се код локалне примене ле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примене   ампицилина или амоксицилина → симптоми слични инфекцији  Епштајн – Баровим вирусом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а </a:t>
            </a:r>
            <a:r>
              <a:rPr b="0" lang="sr-C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</a:t>
            </a:r>
            <a:r>
              <a:rPr b="0" lang="sr-Latn-C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ly</a:t>
            </a:r>
            <a:r>
              <a:rPr b="0" lang="sr-C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лимфоцита и </a:t>
            </a:r>
            <a:r>
              <a:rPr b="0" lang="sr-Latn-C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закаснелој макулопапулозној реакцији на бројне антибиотике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ANd9GcRP3m-AM-CFuW13_itCSDZ8r5_Zyu28teXbA9hY49mgohPAgfOeGQ"/>
          <p:cNvPicPr/>
          <p:nvPr/>
        </p:nvPicPr>
        <p:blipFill>
          <a:blip r:embed="rId2"/>
          <a:stretch/>
        </p:blipFill>
        <p:spPr>
          <a:xfrm>
            <a:off x="5486400" y="4648320"/>
            <a:ext cx="26668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АЛЕРГИЈА НА ЛЕКОВЕ У ДЕ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3657600" cy="3581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РАНЕ РЕАКЦИЈЕ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ртика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нгиоед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ронхоспазам/рин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нафилактички ш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4191120" y="1295280"/>
            <a:ext cx="4952880" cy="52146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КАСНЕ РЕАКЦИЈ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рбилиформни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куло- папулозни оси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сно појављивање уртикар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ангиоеде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аскулити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емолитичка анемиј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омбоцитопен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утропен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vens-Johnson s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окси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 епидерма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олиз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АЛЕРГИЈА НА ЛЕКОВЕ У ДЕЦ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Р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еакције мог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бити  фаталне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!На срећу ретк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еком-индукован анафилакти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и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vens-Johnson syndrome (SJ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окси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 епидермална н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олиза (T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кутна генерализована 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нтематозна пустулоза (A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еком-индукована реакција са еозинофилијом и системским синдромом (DRES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АЛЕРГИЈА НА ЛЕКОВЕ У ДЕ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66"/>
                </a:solidFill>
                <a:latin typeface="Times New Roman"/>
              </a:rPr>
              <a:t>Дијагн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Анамнез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први корак у дијагнози, значајна али често и непоуздана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 80% нетачна код алергије на пеницилин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жни тест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брз и осетљив за доказивање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g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антитела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пецифичне  алергене али негативан не искључује присуство а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еницилин – на присуство великих и малих детерминан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озитиван – специфичан у 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егативан тест високо специфичан (97-99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умбсов тест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–  + код леком индуковане хемолитичке анем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румска триптаз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код системске дегранулације маст ћ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АЛЕРГИЈА НА ЛЕКОВЕ У ДЕ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CS" sz="3200" spc="-1" strike="noStrike">
                <a:solidFill>
                  <a:srgbClr val="ff0066"/>
                </a:solidFill>
                <a:latin typeface="Times New Roman"/>
              </a:rPr>
              <a:t>Дијагноз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VITRO ТЕ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дређивање специфичних I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ст базофилне активациј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целуларни тестов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VIVO  ТЕ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ж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традерм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вокативни тест ле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ANd9GcQnWSPxYa6tYSbnSgPl9NR_Pyacf-UH-SS-0drMTY5OjdQi3OrYsQ"/>
          <p:cNvPicPr/>
          <p:nvPr/>
        </p:nvPicPr>
        <p:blipFill>
          <a:blip r:embed="rId1"/>
          <a:stretch/>
        </p:blipFill>
        <p:spPr>
          <a:xfrm>
            <a:off x="5029200" y="4114800"/>
            <a:ext cx="23623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АЛЕРГИЈА НА ЛЕКОВЕ У ДЕ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66"/>
                </a:solidFill>
                <a:latin typeface="Times New Roman"/>
              </a:rPr>
              <a:t>Лечењ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Специфична десензибилиз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д пацијената с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g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антителима на одређене лек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искључиво у болни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присутна опрема за оживљав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степено увођење л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АЛЕРГИЈА НА ЛЕКОВЕ </a:t>
            </a: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У ДЕ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9372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66"/>
                </a:solidFill>
                <a:latin typeface="Times New Roman"/>
              </a:rPr>
              <a:t>Преосетљивост на бета лакта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Пеницилин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чест узрок анафилак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еопходни тестови на обе детерминанте (20% са анафилаксом негативно на веће детерминанте) ако су оба позити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други антибиотик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лусинтетски пеницилини, цефалоспорини,  карбапенеми и монобакт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Амоксицилин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касна молбилиформна оспа – може се дати пеницилин без кожног теста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оксицилин/ампицилин + Е.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осип без свраба у100%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ко је анамнеза нејесна – кожни тест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u_sou_alergico_a_penicilina_alergia_da_penicilin_cartao_postal-p239998205900372432envli_400"/>
          <p:cNvPicPr/>
          <p:nvPr/>
        </p:nvPicPr>
        <p:blipFill>
          <a:blip r:embed="rId1"/>
          <a:stretch/>
        </p:blipFill>
        <p:spPr>
          <a:xfrm>
            <a:off x="6172200" y="-304920"/>
            <a:ext cx="259380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Преосетљивост на бета лакта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Укрштена реакција пеницилина са цефалоспориним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зитиван кожни тест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на обе детреминанте пеницилина иако је у 2% алергија и на цефалоспорине - дати алтернативни л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зитивна анамнез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(за1.тип реакције) на цефалоспорине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радити кожни тест на пеници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Алергија на један цефалоспорин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– опрезно за дру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арбапенем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- висок степен укрштене реакције са пеницили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Датотека:Penicillin-biosynthesis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4952880"/>
            <a:ext cx="3213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762120" y="3805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АЛЕРГИЈА НА ЛЕКОВЕ </a:t>
            </a: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У ДЕЦ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еосетљивост на сулфонами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Најчешћа реакција – јавља се 7-10 дана после т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макулопапулозна ерупциј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еосетљивост на Аспирин и НСАИЛ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анафилакса,уртикарија и/или ангиоедем, аст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еосетљивост на инсулин у 50% 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Антиконвулзивни хиперсензитивни синд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угрожава живот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грозница,макулопапулозна оспа, лимфаденопат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индром црвеног ч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Ванкомицин- ослобађање хистамина – превенција споро давање и превентивно давање антихистами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Радиоконтрасна средства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– мијелографија и пијелограф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анафилакса-активација маст ћелија превенциј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орални преднизоло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Наркотични аналгетици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опијати,морфин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директна дегранулација мастоцита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свраб,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уртикарија,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виз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ANd9GcSBidQaoDA4bq-e4iOATgqtJN0sOy8fSKJblg4xnnJwyih_MjQCzg"/>
          <p:cNvPicPr/>
          <p:nvPr/>
        </p:nvPicPr>
        <p:blipFill>
          <a:blip r:embed="rId1"/>
          <a:stretch/>
        </p:blipFill>
        <p:spPr>
          <a:xfrm>
            <a:off x="7238880" y="380880"/>
            <a:ext cx="15908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STIVENS-DŽONSONOV SINDROM I </a:t>
            </a:r>
            <a:br>
              <a:rPr sz="2800"/>
            </a:b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TOKSIČNA EPIDERMALNA NEKROLIZA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зазивачи леков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укокутани поремећа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Stivens-Džonsonov sindrom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&lt; 10% епидерма захваће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Грозница,конфлуентне пурпурне макуле по лицу,ерозија слузнице,захваћеност јетре,бубрега и плућ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Toksična epidermalna nekroliz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&gt; 30% епидерма захваћ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тежа клиничка слика , тешко оштећење слузн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иф дг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са синдромом Црвеног ветра(стафилококни токс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Лечењ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ортикостероиди – контравер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муноглобулини – високе дозе – позитиван ефек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НЕЖЕЉЕНЕ РЕАКЦИЈЕ НА ЛЕКОВЕ</a:t>
            </a:r>
            <a:r>
              <a:rPr b="0" lang="sr-C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раст у дечјој популациј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Могу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бит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1) Предвидиве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2) Непредвиди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1) Предвидив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– тровање лековима, </a:t>
            </a:r>
            <a:r>
              <a:rPr b="1" lang="sr-CS" sz="2800" spc="-1" strike="noStrike">
                <a:solidFill>
                  <a:srgbClr val="0000ff"/>
                </a:solidFill>
                <a:latin typeface="Times New Roman"/>
              </a:rPr>
              <a:t>дозна завис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2) Непредвидив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CS" sz="2800" spc="-1" strike="noStrike">
                <a:solidFill>
                  <a:srgbClr val="0000ff"/>
                </a:solidFill>
                <a:latin typeface="Times New Roman"/>
              </a:rPr>
              <a:t>дозно независн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идиосинкратич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алергијск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псеудоалергијске реа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6858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екови који могу да изазову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purinol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clofena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ibuprofen, NSAI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n- steroid anti- inflammatory drugs) etravirine, Isotretinoin,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cuta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uconazole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decoxib, sitagliptin, oseltamivir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nicilli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rbitura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lfonam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enytoin, azithromycin, ciprofloxac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oxcarbazepine, zonisamide, modafinil, lamotrigine, nevirapine, pyrimethamine,, ethosuximide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bamazepine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ticonvulsants, nystatin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.....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Stevens-Johnson-syndrome-art"/>
          <p:cNvPicPr/>
          <p:nvPr/>
        </p:nvPicPr>
        <p:blipFill>
          <a:blip r:embed="rId1"/>
          <a:stretch/>
        </p:blipFill>
        <p:spPr>
          <a:xfrm>
            <a:off x="5029200" y="4495680"/>
            <a:ext cx="3809880" cy="21146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1301040" y="384120"/>
            <a:ext cx="59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TIVENS-DŽONSONOV SINDROM I 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TOKSIČNA EPIDERMALNA NEKROLI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TIVENS-DŽONSONOV SINDROM I </a:t>
            </a:r>
            <a:br>
              <a:rPr sz="3200"/>
            </a:b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OKSIČNA EPIDERMALNA NEKROLI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Dermatology - FACE: Stevens-Johnson syndrome  - drug reaction, ciprofloxac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3581280"/>
            <a:ext cx="3927240" cy="2819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steven's-johnson-left-745_small"/>
          <p:cNvPicPr/>
          <p:nvPr/>
        </p:nvPicPr>
        <p:blipFill>
          <a:blip r:embed="rId3"/>
          <a:stretch/>
        </p:blipFill>
        <p:spPr>
          <a:xfrm>
            <a:off x="685800" y="1600200"/>
            <a:ext cx="2171880" cy="1981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ANd9GcRpuKDKa7F1BDcXaJ6eS6nG6fidKtfuI9xFLsDqq_LN_3dmljDA"/>
          <p:cNvPicPr/>
          <p:nvPr/>
        </p:nvPicPr>
        <p:blipFill>
          <a:blip r:embed="rId4"/>
          <a:stretch/>
        </p:blipFill>
        <p:spPr>
          <a:xfrm>
            <a:off x="533520" y="3962520"/>
            <a:ext cx="3504960" cy="2503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ANd9GcSJSeerx7oIB7AjlLsA3pAwJP-sMpQiSe7TEW3WGyXz-M2Z6IQpVw"/>
          <p:cNvPicPr/>
          <p:nvPr/>
        </p:nvPicPr>
        <p:blipFill>
          <a:blip r:embed="rId5"/>
          <a:stretch/>
        </p:blipFill>
        <p:spPr>
          <a:xfrm>
            <a:off x="3276720" y="16002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ANd9GcQ1cRmCKkrBTsc9WNVOIOOK9-XCyAKA7jQs6GPtRo9qi0zycqDd_A"/>
          <p:cNvPicPr/>
          <p:nvPr/>
        </p:nvPicPr>
        <p:blipFill>
          <a:blip r:embed="rId6"/>
          <a:stretch/>
        </p:blipFill>
        <p:spPr>
          <a:xfrm>
            <a:off x="6172200" y="14479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АЛЕРГИЈА НА ЛЕКОВЕ У ДЕЦ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Препору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rimum non noc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Спречити масовну појаву употребе лекова у педијатр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Препознати децу која су у ризику за настанак нежељених еф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Предност дати оралној употреби л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Посматрати пацијента после употребе лека и мислити на ране и касне алергијске реакциј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061117_drawing"/>
          <p:cNvPicPr/>
          <p:nvPr/>
        </p:nvPicPr>
        <p:blipFill>
          <a:blip r:embed="rId1"/>
          <a:stretch/>
        </p:blipFill>
        <p:spPr>
          <a:xfrm>
            <a:off x="2286000" y="1981080"/>
            <a:ext cx="6391440" cy="4353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Bactrim"/>
          <p:cNvPicPr/>
          <p:nvPr/>
        </p:nvPicPr>
        <p:blipFill>
          <a:blip r:embed="rId2"/>
          <a:stretch/>
        </p:blipFill>
        <p:spPr>
          <a:xfrm>
            <a:off x="304920" y="380880"/>
            <a:ext cx="312408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НЕЖЕЉЕНЕ РЕАКЦИЈЕ НА ЛЕК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1" lang="sr-CS" sz="3200" spc="-1" strike="noStrike">
                <a:solidFill>
                  <a:srgbClr val="ff0066"/>
                </a:solidFill>
                <a:latin typeface="Times New Roman"/>
              </a:rPr>
              <a:t>Алергијске реакциј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Ig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редован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е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Ig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редован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ензибилизациј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наци и симптоми везани за алергиј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еханизам (анафилакса и уртикариј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генетска предиспози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mehanizam-alergijske-reakcije"/>
          <p:cNvPicPr/>
          <p:nvPr/>
        </p:nvPicPr>
        <p:blipFill>
          <a:blip r:embed="rId4"/>
          <a:stretch/>
        </p:blipFill>
        <p:spPr>
          <a:xfrm>
            <a:off x="5943600" y="1219320"/>
            <a:ext cx="2657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АЛЕРГИЈА НА ЛЕКОВЕ У ДЕ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Епидемиологиј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- инциденца у деце - слабо позн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- код хоспитализованих око 6,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фаталан исход у 0,3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0000ff"/>
                </a:solidFill>
                <a:latin typeface="Times New Roman"/>
              </a:rPr>
              <a:t>највећи број нежељених реакц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r-CS" sz="2800" spc="-1" strike="noStrike">
                <a:solidFill>
                  <a:srgbClr val="0000ff"/>
                </a:solidFill>
                <a:latin typeface="Times New Roman"/>
              </a:rPr>
              <a:t>није алергијске при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r-CS" sz="2800" spc="-1" strike="noStrike">
                <a:solidFill>
                  <a:srgbClr val="ff0066"/>
                </a:solidFill>
                <a:latin typeface="Times New Roman"/>
              </a:rPr>
              <a:t>алергијске природе 6-10</a:t>
            </a:r>
            <a:r>
              <a:rPr b="0" lang="sr-CS" sz="2800" spc="-1" strike="noStrike">
                <a:solidFill>
                  <a:srgbClr val="ff0066"/>
                </a:solidFill>
                <a:latin typeface="Times New Roman"/>
              </a:rPr>
              <a:t>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ANd9GcR79VkNW8rxzjBUs3N8s4ciWHHboCzSsEYdCRPwLLYqIVGR-j_TOQ"/>
          <p:cNvPicPr/>
          <p:nvPr/>
        </p:nvPicPr>
        <p:blipFill>
          <a:blip r:embed="rId1"/>
          <a:stretch/>
        </p:blipFill>
        <p:spPr>
          <a:xfrm>
            <a:off x="5638680" y="44197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АЛЕРГИЈА НА ЛЕКОВЕ У ДЕ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Патоген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мунолошки посредоване нежељене реакције класификација по 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Coombsu i Gellu</a:t>
            </a: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1. тип  - рана реакција преосетљ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2. тип  - реакција цитотоксичних анти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3. тип  - реакција имуних комплек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4. тип  - касна реакција преосетљ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АЛЕРГИЈА НА ЛЕКОВЕ У ДЕ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линичка сл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66"/>
                </a:solidFill>
                <a:latin typeface="Times New Roman"/>
              </a:rPr>
              <a:t>Клиничку слику одређује тип алергијске реакције који је настао наком примене лека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alergijski%20sok"/>
          <p:cNvPicPr/>
          <p:nvPr/>
        </p:nvPicPr>
        <p:blipFill>
          <a:blip r:embed="rId1"/>
          <a:stretch/>
        </p:blipFill>
        <p:spPr>
          <a:xfrm>
            <a:off x="228600" y="3352680"/>
            <a:ext cx="2570040" cy="2895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230px-Angioedema2010"/>
          <p:cNvPicPr/>
          <p:nvPr/>
        </p:nvPicPr>
        <p:blipFill>
          <a:blip r:embed="rId2"/>
          <a:stretch/>
        </p:blipFill>
        <p:spPr>
          <a:xfrm>
            <a:off x="2590920" y="3352680"/>
            <a:ext cx="1828800" cy="2514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7035922667_1bc8a2d441"/>
          <p:cNvPicPr/>
          <p:nvPr/>
        </p:nvPicPr>
        <p:blipFill>
          <a:blip r:embed="rId3"/>
          <a:stretch/>
        </p:blipFill>
        <p:spPr>
          <a:xfrm>
            <a:off x="4495680" y="3352680"/>
            <a:ext cx="1919520" cy="2514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healing"/>
          <p:cNvPicPr/>
          <p:nvPr/>
        </p:nvPicPr>
        <p:blipFill>
          <a:blip r:embed="rId4"/>
          <a:stretch/>
        </p:blipFill>
        <p:spPr>
          <a:xfrm>
            <a:off x="6477120" y="3352680"/>
            <a:ext cx="2485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1600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АЛЕРГИЈА НА</a:t>
            </a: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ЛЕКОВЕ У ДЕ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66"/>
                </a:solidFill>
                <a:latin typeface="Times New Roman"/>
              </a:rPr>
              <a:t>1. тип  - рана реакција преосетљ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лек или метаболи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ле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лек спец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IgE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маст ћел (базофи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јатори (хистамин, леукотријени.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уртикарија, бронхоспазам и/или анафилак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mehanizam-alergijske-reakcije"/>
          <p:cNvPicPr/>
          <p:nvPr/>
        </p:nvPicPr>
        <p:blipFill>
          <a:blip r:embed="rId2"/>
          <a:stretch/>
        </p:blipFill>
        <p:spPr>
          <a:xfrm>
            <a:off x="7315200" y="914400"/>
            <a:ext cx="1362240" cy="1123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quincke"/>
          <p:cNvPicPr/>
          <p:nvPr/>
        </p:nvPicPr>
        <p:blipFill>
          <a:blip r:embed="rId3"/>
          <a:stretch/>
        </p:blipFill>
        <p:spPr>
          <a:xfrm>
            <a:off x="5943600" y="3657600"/>
            <a:ext cx="2381400" cy="17812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4800600" y="5562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einrich Quinck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 described the clinical pi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angioedema in 1882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ANd9GcSLfvs-I7YylpP24DMS7s8HpJn6tRcmvEz-5_klz8uVNFzMyd0NBw"/>
          <p:cNvPicPr/>
          <p:nvPr/>
        </p:nvPicPr>
        <p:blipFill>
          <a:blip r:embed="rId5"/>
          <a:stretch/>
        </p:blipFill>
        <p:spPr>
          <a:xfrm>
            <a:off x="533520" y="3429000"/>
            <a:ext cx="23479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АЛЕРГИЈА НА ЛЕКОВЕ У ДЕ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2. тип  - реакција цитотоксичних анти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нтиген лека на мембрани ћел +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gG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IgM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антитела + серумски комплемент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ништавање ћелија моноцитномакрофагног систем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олитичка а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ја,  тромбоцитопениј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ANd9GcTlJmiDNff-YObty765fvm_f4uwRBTAvKfODrov7BVmmydkWM92"/>
          <p:cNvPicPr/>
          <p:nvPr/>
        </p:nvPicPr>
        <p:blipFill>
          <a:blip r:embed="rId2"/>
          <a:stretch/>
        </p:blipFill>
        <p:spPr>
          <a:xfrm>
            <a:off x="4952880" y="40384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АЛЕРГИЈА НА ЛЕКОВЕ У ДЕ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9900"/>
                </a:solidFill>
                <a:latin typeface="Times New Roman"/>
              </a:rPr>
              <a:t>3. тип  - реакција имуних комплек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олубилни комплекс лека (или метаболита)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gG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IgM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антител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ложење у зидовима крвних суд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е као у серумској боле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sr-C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грозница, уртикарија,свраб, лимфаденопатија, артралг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и се јављају 1-3 недеље након последње дозе л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лаче се када се лек или његов метаболит излуче из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ANd9GcQpnuj_-i6XDI12reOd3Mp5yz8QW7mPEmO0EgsoUB071Ro1ES5krQ"/>
          <p:cNvPicPr/>
          <p:nvPr/>
        </p:nvPicPr>
        <p:blipFill>
          <a:blip r:embed="rId2"/>
          <a:stretch/>
        </p:blipFill>
        <p:spPr>
          <a:xfrm>
            <a:off x="6324480" y="4791240"/>
            <a:ext cx="22194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orisnik</cp:lastModifiedBy>
  <dcterms:modified xsi:type="dcterms:W3CDTF">2020-09-17T19:01:11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